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breez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973-A222-4C99-9149-4ADD97FF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F67-D8A2-4DA3-9CEF-9403841A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488-23CF-4E01-8146-A16E0960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2CC-3FE6-4BDB-A82F-EB3EED35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ADF6-146E-4634-BAF1-9341313E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6DF9-4782-4D16-AA70-D98CB7F8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9E08-AAA3-404B-80F5-803BE631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F5F0-4DE2-4CC1-98E7-32BC369A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8DBA-52F2-4F76-9B65-CA5E9E3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5686-4376-49F6-AC02-1C275A72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3DD2-4624-4DC3-8B48-CA138D91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1AC6-8903-4A0B-A344-FA27E213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5AA9-0B87-4539-976D-58CC4E32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62C8-A1D8-4D90-8F4A-CE68878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42A8-283E-4FEE-B4AF-4E5DA32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B2BD-DFD0-4145-8AAD-123CF7FD7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AF12-9110-4610-903A-EFBAE7A4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A02-410B-4818-B6C6-AA30BF11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FA0-91E0-4E17-9379-35C94F80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CE4-ADEE-4DEC-AAF5-04C58F5A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328-F30C-43F0-97AA-87D84A2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2C8-FE5B-42EF-96BA-486641EC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DDE-CA80-43F3-8789-A37DB7C2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452-5C6C-4CE0-A940-C116A24B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4098-2CC0-4173-BABF-91D2202D71E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2051-2AD6-4F3C-B562-556BAD544B4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Edwardian Script ITC"/>
              </a:rPr>
              <a:t>New Nation Project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By:</a:t>
            </a:r>
            <a:r>
              <a:rPr b="0" lang="en-US" sz="5400" spc="-1" strike="noStrike">
                <a:solidFill>
                  <a:srgbClr val="00ff00"/>
                </a:solidFill>
                <a:latin typeface="Edwardian Script ITC"/>
              </a:rPr>
              <a:t> Ja’Lisha Urquhar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George Washington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our first presid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important because he fought in one of 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fought in the revolution war and he was the continental</a:t>
            </a:r>
            <a:r>
              <a:rPr b="0" lang="en-US" sz="4000" spc="-1" strike="noStrike">
                <a:solidFill>
                  <a:srgbClr val="ffcc00"/>
                </a:solidFill>
                <a:latin typeface="Edwardian Script ITC"/>
              </a:rPr>
              <a:t>  arm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is plans were initiated for development t of the national capital in Washington D.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The federal court system was established in his term of off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breeze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dwardian Script ITC"/>
              </a:rPr>
              <a:t>John Adams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our second preside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the only one from the first five president that was not  from Virgini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ran for one term A two part  system was emerged during his term of off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a delegate for the first and second continental congr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222408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6:00:31Z</dcterms:created>
  <dc:creator>Jalisha.urquhart</dc:creator>
  <dc:description/>
  <dc:language>en-US</dc:language>
  <cp:lastModifiedBy>Jalisha.urquhart</cp:lastModifiedBy>
  <dcterms:modified xsi:type="dcterms:W3CDTF">2008-04-25T17:06:50Z</dcterms:modified>
  <cp:revision>2</cp:revision>
  <dc:subject/>
  <dc:title>Slide 1</dc:title>
</cp:coreProperties>
</file>